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4CF-CD6E-44F0-A1DF-409A0AE6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E96-FF46-4BF2-862F-FF972991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CEB-3015-4FDD-A8E2-1A38EDFF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9A5-EF6A-4F07-9808-E946E377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F83-D123-4368-9B60-EF153F78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906-4EB2-4133-8D31-495F0D2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4FD-EAE3-41C7-B7C7-CEB59209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AAD-7E0F-4017-9B85-32B4146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C5A-6809-43E0-86FB-47B56CB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10E-9902-4C7E-878E-F5891AF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8CB-3279-4335-A4D3-A4CAA8C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664-03F6-413B-8E9A-2E99E03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2C0C-F522-48F7-B631-F20FA24D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quistado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Cortez and Pizarro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llie Mur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2154240" cy="24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10080" y="35053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055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Mexico- Valley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- Tenochtitlan { today in Mexico City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- believed in many gods like rain gods, sun gods, and crop gods and worship a god called Quetzacoat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many other tribes, forced them to give them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other tribes as slaves and human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tecs brought down {smallpox} a.k.a chicken p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88600">
            <a:off x="0" y="914040"/>
            <a:ext cx="3733920" cy="2433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71600" y="3657600"/>
            <a:ext cx="197640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6200" y="6171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toddjr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Mexican coastline a.k.a Yucatan penins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major city- was much harder for conquistadors to overth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contain as much gold as they wante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many gods {polytheistic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slaves, who could sometimes gain there belief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1828800" cy="150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3276360" cy="227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1480" y="63237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ancountdown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merica, Andes Mts., Peru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: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: Belief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ritten language, but they spoke w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{ Used knots as message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d animal sacrifices, and on 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asions human sacrifice for the child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a Civilization was a big thing for all the people almost 20 million people particip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7796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647400">
            <a:off x="6248160" y="838080"/>
            <a:ext cx="21049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1120" y="64904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amusic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76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ed with 500 men and 16 horses to conquer Aztec people in there capital of Tenochtitlan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ochtitlan is an unusual city because it was built in the middle of lake on a series of i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took Montezuma hostage, and Montezuma was killed  in the fight that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destroyed Tenochtitlan and created a new city , Mexico city that still exists to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38080" y="2133720"/>
            <a:ext cx="2649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060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ed with 180 other men and 27 horses into Peru to conquer the Inca civil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s taken over by the Pizarro and the Spanish  in 1531 because they were fighting a civil war {when two or more groups in one country are fighting with each other.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demanded that a room be filled with gold and silver and the Athualpa would b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tricked Incas and after they delivered the ransom, he did not return to Athualpa and the Incan emperor was eventually kil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300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gacy of the Conquistad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swer: Today in current time Central South America talks Spanish . Today in current time the majority of peoples in central and South America are Christian, and no longer worship their native gods. A lot of Aztec, Inca, and Maya culture and traditions have disappeared for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0958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1:05Z</dcterms:created>
  <dc:creator>jklib</dc:creator>
  <dc:description/>
  <dc:language>en-US</dc:language>
  <cp:lastModifiedBy>jklib</cp:lastModifiedBy>
  <dcterms:modified xsi:type="dcterms:W3CDTF">2011-11-28T14:25:01Z</dcterms:modified>
  <cp:revision>5</cp:revision>
  <dc:subject/>
  <dc:title>Conquistadors  {Cortez and Pizarro}</dc:title>
</cp:coreProperties>
</file>